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3ED-84D1-4B89-B32C-82F896F6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FA79-8140-4DDE-ABC4-BD5B444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B753-31F8-4A96-837E-B744F407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51B1-7DCF-4BFB-9360-CA94E9D8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254A2-EC70-4AE5-BC86-8337B8A1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6CFB6-CEBD-46C3-8E7B-0D6C071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6468-144A-47AB-A971-CE96CC3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9DAB-6C49-418D-A679-2353511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ED125-BBD9-4666-8E4C-97FD372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C5D78-4B48-40D9-AB76-007B9AF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B34D3-81A5-4514-8D0C-EE735A9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0A91-14FD-40AE-ABBB-B83BD9E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FFF30-0A68-421F-BA43-2F90393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5A22-BFD3-4795-99C4-2A65171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26E83-9547-4E17-B43D-B37588F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62A34-A3DF-4EE1-A7F5-934D76F2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F0B7-C3EF-4BA4-A0B3-319A9255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00382-D49C-4495-8083-D7EDED28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DB38F-ADD7-4B95-9349-06B4B24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EA88D-34BA-457B-A353-2D600160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8168B-6416-4EB3-A76C-B5CCE94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5A8E0-DD8B-41A0-91CD-76DE4AE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09AF-258E-492A-8204-FDBEC3C0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11D23-07F2-456D-891F-5E90D07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7D172-6AAB-435A-A53A-E3619B6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5B90B-83DE-4411-8463-9CEDE17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1F294-9C91-4FFD-9407-65F3379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5B93C-A1A5-49C5-BE90-49EAA4C0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ED762-7845-43F2-84AD-428B164E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48D7C-0DE6-478A-83F5-0D98E35C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54B9-DE1E-4AD0-81E2-C15AF39D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1E6B-AFFD-4889-A8C1-C65A685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0916-5D29-4C79-8D5E-2FCEA1D0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9BBE-7A31-4E18-888E-B520F62A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C05D-6D77-46F7-9F95-D45FA2F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F85A-19ED-410A-A75F-91D20F9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65DD-E924-498D-BDA3-92F700C9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0C90-E65C-4D2B-9121-43293AF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EC85-19C1-4DFD-82B4-896D469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88D8-4F5E-4378-90FC-A67CE4D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3F41-6802-4BF2-9BFA-AF99CDE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1484-E9A2-4D5B-98E2-C9F12059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2994-57A1-4164-900E-CA3BF01D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54DC-081A-447A-BE51-C52FDD46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C408-1B23-47A8-966B-E8F58C5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38D4-7E07-4781-8E63-5C01C2E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F75E-48D3-4933-B1E0-40573216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4D13-B5B5-492A-9736-F8FAF561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959A-91B6-4498-955D-20E936B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77D5-EB85-4A06-9FFC-224B30BF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00D1-A464-433D-AB62-CA96570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CB32-9123-41F9-BF20-051D348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0245-CAA5-4BD0-805E-BF56440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49AD-4F73-44B0-87D9-C925A07A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ABB4-3D6D-43C7-B5D1-62B8612A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4484-2B14-4CC6-A3BB-EC88BD0A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075C-10C0-40B4-A118-C856A088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1145-A12B-4DD5-81C7-5F86503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CC75-C4ED-4C3E-8EF9-5579920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F744-F67B-49F2-A284-D4E1F52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EA3-FF5D-4BF3-BA22-C36AB40BD2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44A-0630-41FD-AC6D-D81121775F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80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A5B-093E-486C-A202-6C01B843E6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FF6-4F84-4308-9DD6-E596F91555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E76-EE7A-402D-B009-D9D9EB6BC4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68360" y="3333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комим детей с их правам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2483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Выполнимой декларацию сделает только работа наших с вами душ и ума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3168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новополагающий вопрос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ли нам знать свои пра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Что нам даст знание наших прав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Что такое право, права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125"/>
              </a:spcBef>
              <a:buClr>
                <a:srgbClr val="51253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1253a"/>
                </a:solidFill>
                <a:latin typeface="Comic Sans MS"/>
              </a:rPr>
              <a:t>Реализуются ли в жизни наши права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Предметные области –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правовое  воспита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4396"/>
                </a:solidFill>
                <a:latin typeface="Comic Sans MS"/>
              </a:rPr>
              <a:t>Участники 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дети старшего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24000" y="1773360"/>
            <a:ext cx="82296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4652640"/>
            <a:ext cx="723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ать детям дошкольного возраста элементарные знания и представления о Международном документе по защите прав ребенка </a:t>
            </a:r>
            <a:br>
              <a:rPr sz="4000"/>
            </a:br>
            <a:br>
              <a:rPr sz="4000"/>
            </a:br>
            <a:r>
              <a:rPr b="0" lang="en-US" sz="21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5280" y="1052640"/>
            <a:ext cx="769608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знакомить детей с основными правами и свободами, документами: «Декларация прав ребенка», «Конвенция о правах ребенк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учить детей применять их в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репить полученные знания через изобразительную деятельность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092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18871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74396"/>
                </a:solidFill>
                <a:latin typeface="Comic Sans MS"/>
              </a:rPr>
              <a:t>Продукты деятельности –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рисунки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11280" y="12679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Подготовительн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поиск и изучение литер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занятия по ознакомлению детей             с их правам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3. Заключительн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изобразительная деятельность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69080" indent="-46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ей; создание альбо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-800640"/>
            <a:ext cx="6870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тап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11280" y="126792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а ребенка: основные международные докумен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комим дошкольников с Конвенцией о правах ребе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ши права. Шабельник Е.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ализация Конвенции в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800640"/>
            <a:ext cx="6870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15:02Z</dcterms:created>
  <dc:creator>студент</dc:creator>
  <dc:description/>
  <dc:language>en-US</dc:language>
  <cp:lastModifiedBy>МПРКЯ</cp:lastModifiedBy>
  <dcterms:modified xsi:type="dcterms:W3CDTF">2009-05-29T17:53:33Z</dcterms:modified>
  <cp:revision>9</cp:revision>
  <dc:subject/>
  <dc:title>Знакомим детей с их правами</dc:title>
</cp:coreProperties>
</file>